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2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7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10.png" ContentType="image/png"/>
  <Override PartName="/ppt/media/image35.jpeg" ContentType="image/jpeg"/>
  <Override PartName="/ppt/media/image11.png" ContentType="image/png"/>
  <Override PartName="/ppt/media/image30.jpeg" ContentType="image/jpeg"/>
  <Override PartName="/ppt/media/image15.png" ContentType="image/png"/>
  <Override PartName="/ppt/media/image31.jpeg" ContentType="image/jpeg"/>
  <Override PartName="/ppt/media/image2.png" ContentType="image/png"/>
  <Override PartName="/ppt/media/image25.png" ContentType="image/png"/>
  <Override PartName="/ppt/media/image9.png" ContentType="image/png"/>
  <Override PartName="/ppt/media/image37.png" ContentType="image/png"/>
  <Override PartName="/ppt/media/image7.png" ContentType="image/png"/>
  <Override PartName="/ppt/media/image34.jpeg" ContentType="image/jpeg"/>
  <Override PartName="/ppt/media/image12.png" ContentType="image/png"/>
  <Override PartName="/ppt/media/image36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26.jpeg" ContentType="image/jpeg"/>
  <Override PartName="/ppt/media/image4.png" ContentType="image/png"/>
  <Override PartName="/ppt/media/image3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B97F2-B842-4925-9436-65A996C27C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ch 13, 2010 at Crowley High Scho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nya Chias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60408-1AC9-46D0-B217-F96450AED2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uld reverse the exchange to have stud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790FB-368B-4C05-A25D-F85B6932A5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9D96-999F-4249-9C45-BC74D7BE3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0474-0877-4B12-9994-6BB3C56B3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7CD4-BB29-4A6B-8C9D-567882853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EDCF-6005-4003-A9F5-048018E74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F21F1-D07B-4703-8FE3-48FCC99EB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80047-E1A5-4F61-BF75-85219EE70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293ED-41D7-472A-904F-A791750B8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EC590-30EE-4C59-9DF3-EDE5E228F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7DD9B-16B8-4962-A8A1-A3B9AD41C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07431-7E59-4526-82EE-41FEC5D02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044E7-DBC3-45E1-B7F6-8EB2BA4E6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198E-C07A-4FD4-A206-3DF57FD72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427CC-A198-4A72-ABE3-88E85143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F3B03-2222-4BE6-B64D-00526F162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812E8-2931-40D8-B283-AB2FA16AD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0DE3B-6D9F-4C98-A1F1-A3D02BB47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A7488-02AA-43E3-8581-82B870914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B681E-AEE6-4748-AF0B-B63D09E85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D3D1B-B780-4559-9462-35DDB93CE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1AC84-256B-46E6-B85A-5BF925687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DF2D8-CE4A-4E6C-B2B5-CA558AB3E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DEA7C-1609-4A62-A3C8-D40D89653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F268-0252-4A47-8C63-B71F4478C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A5C01-C22E-4A35-AF9F-BF63C4F44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BC0C8-BED7-4A15-A90A-0B8DBBA17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B58CE-D51A-4C4D-8EFA-ABFBB0B38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1D7BA-9AFF-47C0-B29C-9190CCE55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5597A-072E-468B-B8BF-8EA8ADEE7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59F25-76A5-423B-8DF1-8B241E1B8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1B0E5-9725-4372-A07F-79E2BDF8F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A2E36-CA93-4135-8225-794559AB7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D3291-B924-48CB-9A72-5D7E570A2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2370E-B149-451E-BF99-62FEB58CD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D432-34AC-4AB7-9CBF-F3B854A84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C899E-85A7-435E-AF22-0785B578E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792B7-9F15-44FD-8590-D5AA2888B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A0CEB-3AC0-4D1C-962D-AA83A418C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A92EB-F300-4AF8-958E-1E062AA7E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9BC80-E98B-4B91-BA60-C0A2219A3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1DEC1-88B6-46EB-8733-AD28260F3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C4427-3867-4435-A986-E19D50B3F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D03E0-9BFE-47BA-BB33-85E8257DC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9A980-698F-4141-8F81-F8AA78759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C3311-B5E7-4099-832C-698072BDE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118E-393B-4ECC-A541-2C2F4BEE0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C0C6D-0D5E-48E9-A3AF-3EB3752C3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43AF7E-03F8-4A36-8F18-088EB5693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757A0-7DAD-4F68-8365-66D50A05F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46CB96-89EC-42F3-81C8-619312D6A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D320A-EDB4-438D-BBFC-FAC7BCDA6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18649-FAA9-4988-B6FE-E6A777A27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A216F5-3282-46C2-96A2-FDDB394A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6D9A57-812C-49D3-8AA7-97A8344E5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78B959-649C-440C-954C-838B08B0A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10A3B-0EA0-4926-98C9-81FF4E70E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6E85-2204-43A4-AB46-EABDBF7D7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1AC5DD-4488-444B-BC79-83EF660ED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46D7AB-EBDB-47F8-84B2-DD8E045EA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7C1E2F-29FB-4FF9-ABC0-36CA885E5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8186A7-8AC1-49A1-888E-F950EBFA9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546AAD-AB86-4640-A7BC-4C57E1D59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FD6B89-650A-4941-9B9E-9105584EB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1CBE39-FDE6-4358-9BED-AE57239EF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6ED7AF-4BD4-4CF5-8DB1-A9116BC98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367502-7857-4B65-B163-A0EA7B59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A90E76-B7C2-47AA-B2C2-590D91706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EE1D-1AAB-446C-B311-19225AE6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B2F303-3752-428E-BA52-0E216A0EF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A17C9F-3C9D-4D6E-A097-A4E309B5E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197FB6-A600-4D6F-A876-04A4BD290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AB68E8-2783-4370-A479-97F5221FC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2A2C41-CBB7-489B-B4BB-600530A53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3C946E-F804-4608-9439-450CB6DDC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10B6F5-ECB1-47FB-B3E7-20F934FFF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BA1300-FB51-4B60-9AF9-561FCD431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F9C7CE-FFA4-40E0-940F-F603BE4EA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9B3D84-4868-4BFF-9C49-D1EFCD344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CD70-00D0-4F85-A7E1-EBCB51C90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1D5BB3-AD25-4ECF-819B-06B78AFAF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2297FE-7830-4E1F-9171-6F062127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EF22EC-F931-4F2C-A8A2-EBBE7CF4B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2FA881-8E79-4254-BC5E-180A7C19E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F51295-F466-48ED-90B1-ED114D7A5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834E52-E632-4407-9BF8-4D286C8FD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CF06F5-ADE4-44E8-8E8F-25A72DD47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D96BF9-0525-42E9-9211-6B99C8E4B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9BF298-84E4-4262-A616-F3328B900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D46B93-FE72-48CD-BFF1-F62B77609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D37F-002B-443F-BE9D-82EB6F891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0188FB-0955-4717-ADE0-CE573A9C6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CDD198-49EB-4880-9B42-881625D1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1EC08F-1839-4AE8-8E8A-3174B346E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B5D3D8-AC25-4C7A-BE5D-AA103841D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E1EE31-9E2F-41EE-B62B-29209B461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345A12-DABD-4D88-9367-2E7C2DDFA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D86043-0A90-402D-9A37-00E96C222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4F374-25AA-42CD-B290-2A9AEA0B1AF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15EB8-A78C-4C61-8508-D942B051D42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F7EB1-D6CE-4DA5-8F37-2AD009A834A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E229B-EAAD-4514-AF7E-5AB5145C01E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AB4E6-6D3F-42A4-BD44-65C87BC4489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96A24-F5F1-475B-B5BD-8914000810C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F0E10-4FBB-4156-9C05-BF466F41998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7951C-AA30-4680-A8B4-40A26517210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image" Target="../media/image35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k12onlineconference.org/?p=481" TargetMode="External"/><Relationship Id="rId2" Type="http://schemas.openxmlformats.org/officeDocument/2006/relationships/hyperlink" Target="http://aroundtheworldwith80schools.wikispaces.com/" TargetMode="External"/><Relationship Id="rId3" Type="http://schemas.openxmlformats.org/officeDocument/2006/relationships/hyperlink" Target="http://onlineproj4tchrs.ning.com/" TargetMode="External"/><Relationship Id="rId4" Type="http://schemas.openxmlformats.org/officeDocument/2006/relationships/hyperlink" Target="http://skypeforeducators.com/" TargetMode="External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kype.com/" TargetMode="External"/><Relationship Id="rId2" Type="http://schemas.openxmlformats.org/officeDocument/2006/relationships/hyperlink" Target="http://www.blogger.com/" TargetMode="External"/><Relationship Id="rId3" Type="http://schemas.openxmlformats.org/officeDocument/2006/relationships/hyperlink" Target="http://www.speakingofliterature.blogspot.com/" TargetMode="External"/><Relationship Id="rId4" Type="http://schemas.openxmlformats.org/officeDocument/2006/relationships/hyperlink" Target="http://www.intel.com/education/tools/index.htm" TargetMode="External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615960" y="1749600"/>
            <a:ext cx="8339040" cy="18414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80988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64646"/>
                </a:solidFill>
                <a:latin typeface="Lucida Sans Unicode"/>
              </a:rPr>
              <a:t>Tanya Chiasson, St. Piu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64646"/>
                </a:solidFill>
                <a:latin typeface="Lucida Sans Unicode"/>
              </a:rPr>
              <a:t>Gayle Dauterive, Fatima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64646"/>
                </a:solidFill>
                <a:latin typeface="Lucida Sans Unicode"/>
              </a:rPr>
              <a:t>2010 Region IV Mini-LACUE Conferenc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tel’s Visual Ranking Too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3" descr=""/>
          <p:cNvPicPr/>
          <p:nvPr/>
        </p:nvPicPr>
        <p:blipFill>
          <a:blip r:embed="rId2"/>
          <a:srcRect l="1249" t="19001" r="40001" b="21000"/>
          <a:stretch/>
        </p:blipFill>
        <p:spPr>
          <a:xfrm>
            <a:off x="685800" y="1905120"/>
            <a:ext cx="71629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e discussion board, Ning, wiki, Google Docs, or email to exchange inform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e another video conferencing software like Windows Live or VoiceThread that may not be block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ave quiet students participate through a chat instea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457200" y="1481040"/>
            <a:ext cx="8229600" cy="25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udent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liked being able to see, hear, and textually communicat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understood them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hared what they did with other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wanted to Skype and blog agai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3" descr="DSCN0899.JPG"/>
          <p:cNvPicPr/>
          <p:nvPr/>
        </p:nvPicPr>
        <p:blipFill>
          <a:blip r:embed="rId2"/>
          <a:srcRect l="0" t="0" r="0" b="15683"/>
          <a:stretch/>
        </p:blipFill>
        <p:spPr>
          <a:xfrm>
            <a:off x="4572000" y="3886200"/>
            <a:ext cx="4248000" cy="26859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4" descr="DSCN0900.JPG"/>
          <p:cNvPicPr/>
          <p:nvPr/>
        </p:nvPicPr>
        <p:blipFill>
          <a:blip r:embed="rId3"/>
          <a:srcRect l="0" t="8756" r="0" b="0"/>
          <a:stretch/>
        </p:blipFill>
        <p:spPr>
          <a:xfrm>
            <a:off x="304920" y="3849840"/>
            <a:ext cx="4062240" cy="27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09" name="Content Placeholder 5" descr="DSCN0869.JPG"/>
          <p:cNvPicPr/>
          <p:nvPr/>
        </p:nvPicPr>
        <p:blipFill>
          <a:blip r:embed="rId2"/>
          <a:srcRect l="4270" t="11701" r="27367" b="19946"/>
          <a:stretch/>
        </p:blipFill>
        <p:spPr>
          <a:xfrm>
            <a:off x="228600" y="1695600"/>
            <a:ext cx="2514600" cy="188568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8" descr="DSCN0863.JPG"/>
          <p:cNvPicPr/>
          <p:nvPr/>
        </p:nvPicPr>
        <p:blipFill>
          <a:blip r:embed="rId3"/>
          <a:srcRect l="14194" t="0" r="15582" b="14186"/>
          <a:stretch/>
        </p:blipFill>
        <p:spPr>
          <a:xfrm>
            <a:off x="6400800" y="2438280"/>
            <a:ext cx="2514600" cy="230508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9" descr="DSCN0870.JPG"/>
          <p:cNvPicPr/>
          <p:nvPr/>
        </p:nvPicPr>
        <p:blipFill>
          <a:blip r:embed="rId4"/>
          <a:srcRect l="6208" t="0" r="11008" b="22737"/>
          <a:stretch/>
        </p:blipFill>
        <p:spPr>
          <a:xfrm>
            <a:off x="3048120" y="1447920"/>
            <a:ext cx="3047760" cy="213336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11" descr="DSCN0872.JPG"/>
          <p:cNvPicPr/>
          <p:nvPr/>
        </p:nvPicPr>
        <p:blipFill>
          <a:blip r:embed="rId5"/>
          <a:srcRect l="16082" t="14300" r="0" b="0"/>
          <a:stretch/>
        </p:blipFill>
        <p:spPr>
          <a:xfrm>
            <a:off x="6377040" y="341280"/>
            <a:ext cx="2538360" cy="194472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2" descr="DSCN0876.JPG"/>
          <p:cNvPicPr/>
          <p:nvPr/>
        </p:nvPicPr>
        <p:blipFill>
          <a:blip r:embed="rId6"/>
          <a:stretch/>
        </p:blipFill>
        <p:spPr>
          <a:xfrm>
            <a:off x="3048120" y="3886200"/>
            <a:ext cx="3071520" cy="23050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13" descr="DSCN0889.JPG"/>
          <p:cNvPicPr/>
          <p:nvPr/>
        </p:nvPicPr>
        <p:blipFill>
          <a:blip r:embed="rId7"/>
          <a:srcRect l="3222" t="9683" r="16935" b="9683"/>
          <a:stretch/>
        </p:blipFill>
        <p:spPr>
          <a:xfrm>
            <a:off x="6400800" y="4952880"/>
            <a:ext cx="2514600" cy="190512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14" descr="DSCN0894.JPG"/>
          <p:cNvPicPr/>
          <p:nvPr/>
        </p:nvPicPr>
        <p:blipFill>
          <a:blip r:embed="rId8"/>
          <a:stretch/>
        </p:blipFill>
        <p:spPr>
          <a:xfrm>
            <a:off x="228600" y="3886200"/>
            <a:ext cx="251460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Sources from Around the World in 80 Days </a:t>
            </a:r>
            <a:r>
              <a:rPr b="0" lang="en-US" sz="21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k12onlineconference.org/?p=481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Around the World with 80 Schools </a:t>
            </a:r>
            <a:r>
              <a:rPr b="0" lang="en-US" sz="21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http://aroundtheworldwith80schools.wikispaces.com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Online Projects4Teachers Ning </a:t>
            </a:r>
            <a:r>
              <a:rPr b="0" lang="en-US" sz="21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http://onlineproj4tchrs.ning.com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Skype for Educators </a:t>
            </a:r>
            <a:r>
              <a:rPr b="0" lang="en-US" sz="2100" spc="-1" strike="noStrike" u="sng">
                <a:solidFill>
                  <a:srgbClr val="ff8119"/>
                </a:solidFill>
                <a:uFillTx/>
                <a:latin typeface="Lucida Sans Unicode"/>
                <a:hlinkClick r:id="rId4"/>
              </a:rPr>
              <a:t>http://skypeforeducators.com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Skype with Other Classrooms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Lucida Sans Unicode"/>
              </a:rPr>
              <a:t>http://edublogger.edublog.org/want-to-connect-with-other-classroom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Skype in an Author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Lucida Sans Unicode"/>
              </a:rPr>
              <a:t>http://skypeanauthor.wetpaint.com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EduSkypers Phonebook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Lucida Sans Unicode"/>
              </a:rPr>
              <a:t>http://skypeintheclassroom.wordpress.com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Skype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Lucida Sans Unicode"/>
              </a:rPr>
              <a:t>http://skypeinschools.pbworks.com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Title 2" descr=""/>
          <p:cNvPicPr/>
          <p:nvPr/>
        </p:nvPicPr>
        <p:blipFill>
          <a:blip r:embed="rId5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Questions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mments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andouts: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http://chiassonenglish.wikispaces.com/Handouts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anya Chiasson, St. Pius Elementar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anya_chiasson@stpiuselementary.org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anya_chiasson@hotmail.com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ayle Dauterive, Our Lady of Fatim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gdauterive@olf.com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me is an abstract concept that is hard for students to grasp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volve peers to make the abstract concrete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oth classes read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The Outsiders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y S. E. Hint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xchange concrete details, real world examples, and opinions about given them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volve asynchronous and synchronous exchang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" descr=""/>
          <p:cNvPicPr/>
          <p:nvPr/>
        </p:nvPicPr>
        <p:blipFill>
          <a:blip r:embed="rId2"/>
          <a:stretch/>
        </p:blipFill>
        <p:spPr>
          <a:xfrm>
            <a:off x="950760" y="1481040"/>
            <a:ext cx="7242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Monday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Introduction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What we expected each group to do (sample post, parts of a response, how to respond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The parts of a blog screen and cyber safety issue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Timeline for completion (Tues.-Thurs. blog posting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Tuesday-Thursday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Open for troubleshooting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Friday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Intel Visual Ranking Tool group activity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Student-led round table discussion of activity, process, and product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Goodbye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Title 5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2" descr=""/>
          <p:cNvPicPr/>
          <p:nvPr/>
        </p:nvPicPr>
        <p:blipFill>
          <a:blip r:embed="rId2"/>
          <a:stretch/>
        </p:blipFill>
        <p:spPr>
          <a:xfrm>
            <a:off x="230040" y="1371600"/>
            <a:ext cx="8761680" cy="52513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2" descr=""/>
          <p:cNvPicPr/>
          <p:nvPr/>
        </p:nvPicPr>
        <p:blipFill>
          <a:blip r:embed="rId3"/>
          <a:srcRect l="0" t="0" r="63681" b="65385"/>
          <a:stretch/>
        </p:blipFill>
        <p:spPr>
          <a:xfrm>
            <a:off x="4572000" y="228600"/>
            <a:ext cx="263052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afety issu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Never use full name or school name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Never give out personal information (phone number, address, IM, Facebook, MySpace information, etc.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gin with group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odel everything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ppropriate respons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ffirmatio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ow to disagre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2" descr=""/>
          <p:cNvPicPr/>
          <p:nvPr/>
        </p:nvPicPr>
        <p:blipFill>
          <a:blip r:embed="rId2"/>
          <a:srcRect l="19376" t="15000" r="20625" b="7998"/>
          <a:stretch/>
        </p:blipFill>
        <p:spPr>
          <a:xfrm>
            <a:off x="4535640" y="3124080"/>
            <a:ext cx="4232160" cy="33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 txBox="1"/>
          <p:nvPr/>
        </p:nvSpPr>
        <p:spPr>
          <a:xfrm>
            <a:off x="457200" y="1752480"/>
            <a:ext cx="82296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mment moderation is key to keeping unwanted comments out of the blo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oderation means that the comments will need to be approved (read and allowed) before the post will appear on the si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Picture 2" descr=""/>
          <p:cNvPicPr/>
          <p:nvPr/>
        </p:nvPicPr>
        <p:blipFill>
          <a:blip r:embed="rId2"/>
          <a:srcRect l="20536" t="24519" r="21590" b="40129"/>
          <a:stretch/>
        </p:blipFill>
        <p:spPr>
          <a:xfrm>
            <a:off x="3962520" y="152280"/>
            <a:ext cx="4190760" cy="16002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3" descr=""/>
          <p:cNvPicPr/>
          <p:nvPr/>
        </p:nvPicPr>
        <p:blipFill>
          <a:blip r:embed="rId3"/>
          <a:srcRect l="933" t="40851" r="1249" b="15000"/>
          <a:stretch/>
        </p:blipFill>
        <p:spPr>
          <a:xfrm>
            <a:off x="533520" y="4267080"/>
            <a:ext cx="800100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Assignmen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: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rst, you will exchange concrete details found in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The Outsiders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 support your theme through blog posts and comments. Two different concrete details must be submitted (one from each group). Secondly, you will exchange personal or general real-world examples illustrating the theme in today's society. Again the ideas must differ. Finally, you will exchange support for and disagreement with Hinton's messag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0680"/>
            <a:ext cx="8229600" cy="431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kype </a:t>
            </a: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www.skype.com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logger </a:t>
            </a: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http://www.blogger.co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rs. Chiasson’s Blog </a:t>
            </a:r>
            <a:r>
              <a:rPr b="0" lang="en-US" sz="24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http://www.speakingofliterature.blogspot.com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tel’s Visual Ranking Tool </a:t>
            </a:r>
            <a:r>
              <a:rPr b="0" lang="en-US" sz="2400" spc="-1" strike="noStrike" u="sng">
                <a:solidFill>
                  <a:srgbClr val="ff8119"/>
                </a:solidFill>
                <a:uFillTx/>
                <a:latin typeface="Lucida Sans Unicode"/>
                <a:hlinkClick r:id="rId4"/>
              </a:rPr>
              <a:t>http://www.intel.com/education/tools/index.htm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Title 1" descr=""/>
          <p:cNvPicPr/>
          <p:nvPr/>
        </p:nvPicPr>
        <p:blipFill>
          <a:blip r:embed="rId5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3T11:41:54Z</dcterms:created>
  <dc:creator>Tanya_Chiasson</dc:creator>
  <dc:description/>
  <dc:language>en-US</dc:language>
  <cp:lastModifiedBy>Tanya_Chiasson</cp:lastModifiedBy>
  <dcterms:modified xsi:type="dcterms:W3CDTF">2010-03-13T14:36:24Z</dcterms:modified>
  <cp:revision>25</cp:revision>
  <dc:subject/>
  <dc:title>Skype and Blog through Literary Themes</dc:title>
</cp:coreProperties>
</file>